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11.png" ContentType="image/png"/>
  <Override PartName="/ppt/media/image26.png" ContentType="image/png"/>
  <Override PartName="/ppt/media/image23.png" ContentType="image/png"/>
  <Override PartName="/ppt/media/image13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39.png" ContentType="image/png"/>
  <Override PartName="/ppt/media/image34.jpeg" ContentType="image/jpeg"/>
  <Override PartName="/ppt/media/image37.png" ContentType="image/pn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30.jpeg" ContentType="image/jpeg"/>
  <Override PartName="/ppt/media/image31.png" ContentType="image/png"/>
  <Override PartName="/ppt/media/image47.jpeg" ContentType="image/jpeg"/>
  <Override PartName="/ppt/media/image41.gif" ContentType="image/gif"/>
  <Override PartName="/ppt/media/image12.jpeg" ContentType="image/jpeg"/>
  <Override PartName="/ppt/media/image20.png" ContentType="image/png"/>
  <Override PartName="/ppt/media/image36.jpeg" ContentType="image/jpeg"/>
  <Override PartName="/ppt/media/image8.png" ContentType="image/png"/>
  <Override PartName="/ppt/media/image14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4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34BB-A73C-4184-A4F1-2F9AC73B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4E28-2B36-4CAD-9E61-C1B9093C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926C-659A-4490-8E88-1CCFC250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D0B9-D311-4A25-94DF-B9E0C8B5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B247-AD19-4E7B-9751-67E36E88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BE57-F77B-43E4-9095-2F74009B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1EC4-5511-4345-BCFE-EE0F1EB5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C345-89E1-42E5-88D4-E18A1A74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1D3F-4102-425E-B028-1629233A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F180-4D86-47D3-BE85-9D3AEDD7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41CC-F736-4B42-870F-DEE294AF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7465-6BBD-46ED-BFDE-31872A1F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34D7-3BD2-4E12-8A87-6E6F093B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E7C5-4942-4C9C-B576-3EAA781F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C7E8-33BE-4272-9A0F-D481CD1D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DAD4-7803-4BAC-B9E3-1C55940A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2FC6-0A37-42A6-875B-92F2DBA4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F679C-FBE7-46AC-B24F-85E5A7DEA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04B13-232A-4F9A-B0A4-4C4CCC98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5D4AE-DA7B-4A7C-834A-1F612126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608D6-3E04-4E34-8A40-70E8B999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FABE6-EC2C-4A95-916B-3CB0C42A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7195-90A8-481B-8535-EBEFEA0F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7C92A-37C3-44F9-B200-878CA02E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72A79-239B-4D75-BC1E-272ED621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12265-BAA3-4BCC-AFFC-F41203B7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9F5D0-E599-4824-816F-17C2798B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137B2-20A2-4A11-935C-619D7DD7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24A57-FD67-41F6-AB5D-1D02344A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C73B0-3112-4533-A7E5-89CA9772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E815C-8797-48F6-BC1E-DCAF1D1E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BE7F5-CF55-49E3-A2AE-9CF90B20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CF40B-AB8F-4765-B9E9-F98A2132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D46D-B8FD-469E-A072-34B1CC92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35D9A-C150-4BA6-9D11-C555FDA2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25F35-C288-4938-9C33-BE282DEE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48BAF-7207-49C2-BAD1-0EAD2938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8094A-DDCB-4AF0-996A-500A5DBA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003D7-0B19-482D-8CB4-AD60D287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5D12B-D51D-4E72-92E7-4501C6B9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3A49E-B623-4B5B-84E7-773B9C7F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18532-2FC0-4564-B5CA-22B03213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23175-8D6D-4A6A-9C55-27ABDF53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8CEA-706F-4446-9378-01CA6D2B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8852-C452-44C5-B323-7C6465A3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6089-498B-4472-B690-EE386170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6BAC-B7E9-47BF-B2A0-DA97D6DC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D7B6-40DD-49DE-B832-629099C1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7362-D50E-400E-B2D9-18490B0E9A6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B84C-DADE-4BFD-AA6E-8AB532DCE01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C1FE-0E24-4EE8-A278-6583B737520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17BC-239E-42C7-A749-5CF391937C5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ell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rowth and develop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ow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1904760"/>
            <a:ext cx="4038480" cy="45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6" descr="http://whatdoclientsreallywant.com/wp-content/uploads/2012/09/big_apple_small_apple.jpg"/>
          <p:cNvPicPr/>
          <p:nvPr/>
        </p:nvPicPr>
        <p:blipFill>
          <a:blip r:embed="rId1"/>
          <a:stretch/>
        </p:blipFill>
        <p:spPr>
          <a:xfrm>
            <a:off x="152280" y="2590920"/>
            <a:ext cx="3740400" cy="2809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http://www.deviantart.com/download/169407062/Life_Stages_by_dawningsun.png"/>
          <p:cNvPicPr/>
          <p:nvPr/>
        </p:nvPicPr>
        <p:blipFill>
          <a:blip r:embed="rId2"/>
          <a:stretch/>
        </p:blipFill>
        <p:spPr>
          <a:xfrm>
            <a:off x="4648320" y="2514600"/>
            <a:ext cx="419076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p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855800"/>
            <a:ext cx="343080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Sexual</a:t>
            </a: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790960" y="1860120"/>
            <a:ext cx="289548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Asexu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8" descr="http://www.world-builders.org/lessons/less/les4/genes/asex.gif"/>
          <p:cNvPicPr/>
          <p:nvPr/>
        </p:nvPicPr>
        <p:blipFill>
          <a:blip r:embed="rId1"/>
          <a:stretch/>
        </p:blipFill>
        <p:spPr>
          <a:xfrm>
            <a:off x="5257800" y="2438280"/>
            <a:ext cx="3422520" cy="3299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http://www.ewart.org.uk/biology/pics/sexual.gif"/>
          <p:cNvPicPr/>
          <p:nvPr/>
        </p:nvPicPr>
        <p:blipFill>
          <a:blip r:embed="rId2"/>
          <a:stretch/>
        </p:blipFill>
        <p:spPr>
          <a:xfrm>
            <a:off x="0" y="2514600"/>
            <a:ext cx="4581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ange through ti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2" descr="http://bio1903.nicerweb.com/Locked/media/ch22/22_10ArtifSelection.jpg"/>
          <p:cNvPicPr/>
          <p:nvPr/>
        </p:nvPicPr>
        <p:blipFill>
          <a:blip r:embed="rId1"/>
          <a:stretch/>
        </p:blipFill>
        <p:spPr>
          <a:xfrm>
            <a:off x="533520" y="1371600"/>
            <a:ext cx="80010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Methods of Maintaining Homeostasi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ctotherms –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ptiles, fish and amphibia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moregu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10" descr="http://www.sheppardsoftware.com/content/animals/kidscorner/images/classification/coldbloodedfrog.gif"/>
          <p:cNvPicPr/>
          <p:nvPr/>
        </p:nvPicPr>
        <p:blipFill>
          <a:blip r:embed="rId1"/>
          <a:stretch/>
        </p:blipFill>
        <p:spPr>
          <a:xfrm>
            <a:off x="930240" y="2666880"/>
            <a:ext cx="7939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Methods of Maintaining Homeostasi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ndotherms –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mmals and bird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moregu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2" descr="bears are warm blooded animals"/>
          <p:cNvPicPr/>
          <p:nvPr/>
        </p:nvPicPr>
        <p:blipFill>
          <a:blip r:embed="rId1"/>
          <a:stretch/>
        </p:blipFill>
        <p:spPr>
          <a:xfrm>
            <a:off x="762120" y="2590920"/>
            <a:ext cx="7783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Methods of Maintaining Homeostasi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ter regulation (osmoregula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5" descr="http://renux.dmed.ed.ac.uk/EdREN/EdRenINFObits/hydronephrosisb.gif"/>
          <p:cNvPicPr/>
          <p:nvPr/>
        </p:nvPicPr>
        <p:blipFill>
          <a:blip r:embed="rId1"/>
          <a:stretch/>
        </p:blipFill>
        <p:spPr>
          <a:xfrm>
            <a:off x="2286000" y="1905120"/>
            <a:ext cx="472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Methods of Maintaining Homeostasi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xygen regu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5" descr="http://www.emc.maricopa.edu/faculty/farabee/biobk/gasexch1.gif"/>
          <p:cNvPicPr/>
          <p:nvPr/>
        </p:nvPicPr>
        <p:blipFill>
          <a:blip r:embed="rId1"/>
          <a:stretch/>
        </p:blipFill>
        <p:spPr>
          <a:xfrm>
            <a:off x="304920" y="2209680"/>
            <a:ext cx="4267080" cy="3686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http://rbssanimalsystems3.wikispaces.com/file/view/gills.gif/291073377/gills.gif"/>
          <p:cNvPicPr/>
          <p:nvPr/>
        </p:nvPicPr>
        <p:blipFill>
          <a:blip r:embed="rId2"/>
          <a:stretch/>
        </p:blipFill>
        <p:spPr>
          <a:xfrm>
            <a:off x="4876920" y="1447920"/>
            <a:ext cx="38955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CEL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Prokaryotes</a:t>
            </a: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76560" y="1676520"/>
            <a:ext cx="4041720" cy="65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243792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Unicellula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ack true nucleu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ack membrane-bound organell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ave single loop of DN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ave ribosom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x: bacteri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876560" y="243792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Uni or multicellula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ave a true nucleu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ave a wide variety of membrane-bound organell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ave DNA in chromosom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x: fungi, protists, plants, animal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0" name="Content Placeholder 8" descr="http://www.phschool.com/science/biology_place/biocoach/images/cells/allcell.jpg"/>
          <p:cNvPicPr/>
          <p:nvPr/>
        </p:nvPicPr>
        <p:blipFill>
          <a:blip r:embed="rId1"/>
          <a:stretch/>
        </p:blipFill>
        <p:spPr>
          <a:xfrm>
            <a:off x="0" y="685800"/>
            <a:ext cx="877104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57150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Cell Organelles </a:t>
            </a:r>
            <a:r>
              <a:rPr b="0" lang="en-US" sz="20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 tiny structures that carry out functions necessary for the cell to stay aliv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Picture 5" descr="http://www.enchantedlearning.com/subjects/plants/cell/anatomy.GIF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ample Question 1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6840" y="18288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hich of the following is an example of homeostasis found in your body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.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you eat food because it tastes goo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. you shiver because you are col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. you stay well because you take antibiotics when you</a:t>
            </a:r>
            <a:r>
              <a:rPr b="0" lang="ja-JP" sz="28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 sick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. you get sick when invaded by a pathog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. you eat more and gain weigh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2" descr="http://www.enchantedlearning.com/subjects/animals/cell/anatomy.GIF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rganiz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52280" y="152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Picture 5" descr="http://peer.tamu.edu/curriculum_modules/cell_biology/module_1/levels%20of%20organization.jpg"/>
          <p:cNvPicPr/>
          <p:nvPr/>
        </p:nvPicPr>
        <p:blipFill>
          <a:blip r:embed="rId1"/>
          <a:stretch/>
        </p:blipFill>
        <p:spPr>
          <a:xfrm>
            <a:off x="1905120" y="15238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0" name="Picture 7" descr="http://www.mlms.loganschools.org/~ksorensen/Cells/Cell%20Pictures/Levels%20of%20Organization%20jpg.JPG"/>
          <p:cNvPicPr/>
          <p:nvPr/>
        </p:nvPicPr>
        <p:blipFill>
          <a:blip r:embed="rId1"/>
          <a:stretch/>
        </p:blipFill>
        <p:spPr>
          <a:xfrm>
            <a:off x="1295280" y="0"/>
            <a:ext cx="632484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Structure and function are related!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3" name="Picture 5" descr="http://images.emedicinehealth.com/images/eMedicineHealth/illustrations/blood_cells.jpg"/>
          <p:cNvPicPr/>
          <p:nvPr/>
        </p:nvPicPr>
        <p:blipFill>
          <a:blip r:embed="rId1"/>
          <a:stretch/>
        </p:blipFill>
        <p:spPr>
          <a:xfrm>
            <a:off x="228600" y="1447920"/>
            <a:ext cx="3124080" cy="3411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http://im.glogster.com/media/4/20/14/90/20149068.jpg"/>
          <p:cNvPicPr/>
          <p:nvPr/>
        </p:nvPicPr>
        <p:blipFill>
          <a:blip r:embed="rId2"/>
          <a:stretch/>
        </p:blipFill>
        <p:spPr>
          <a:xfrm>
            <a:off x="5105520" y="15238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http://upload.wikimedia.org/wikipedia/commons/thumb/b/bc/Neuron_Hand-tuned.svg/400px-Neuron_Hand-tuned.svg.png"/>
          <p:cNvPicPr/>
          <p:nvPr/>
        </p:nvPicPr>
        <p:blipFill>
          <a:blip r:embed="rId3"/>
          <a:stretch/>
        </p:blipFill>
        <p:spPr>
          <a:xfrm>
            <a:off x="2743200" y="4114800"/>
            <a:ext cx="464832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Structure and function are related!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Picture 9" descr="http://preview.turbosquid.com/Preview/Content_2010_12_08__08_59_03/skincell04.jpg04eef3bf-4cbc-46ec-be2c-9cc856456abeLarger.jpg"/>
          <p:cNvPicPr/>
          <p:nvPr/>
        </p:nvPicPr>
        <p:blipFill>
          <a:blip r:embed="rId1"/>
          <a:stretch/>
        </p:blipFill>
        <p:spPr>
          <a:xfrm>
            <a:off x="5486400" y="1752480"/>
            <a:ext cx="2895480" cy="2895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http://farm3.static.flickr.com/2640/4062055689_0f0a9747a9.jpg"/>
          <p:cNvPicPr/>
          <p:nvPr/>
        </p:nvPicPr>
        <p:blipFill>
          <a:blip r:embed="rId2"/>
          <a:stretch/>
        </p:blipFill>
        <p:spPr>
          <a:xfrm>
            <a:off x="533520" y="1447920"/>
            <a:ext cx="3524040" cy="2352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http://www.psychologytoday.com/files/u203/Sperm.jpg"/>
          <p:cNvPicPr/>
          <p:nvPr/>
        </p:nvPicPr>
        <p:blipFill>
          <a:blip r:embed="rId3"/>
          <a:stretch/>
        </p:blipFill>
        <p:spPr>
          <a:xfrm>
            <a:off x="2057400" y="3809880"/>
            <a:ext cx="335268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Structure and function are related!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3" name="Picture 2" descr="http://hyperphysics.phy-astr.gsu.edu/hbase/biology/biopic/alvlung.jpg"/>
          <p:cNvPicPr/>
          <p:nvPr/>
        </p:nvPicPr>
        <p:blipFill>
          <a:blip r:embed="rId1"/>
          <a:stretch/>
        </p:blipFill>
        <p:spPr>
          <a:xfrm>
            <a:off x="685800" y="1447920"/>
            <a:ext cx="2819520" cy="49035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http://apainlessjourney.files.wordpress.com/2010/09/17-intestinal-villi-jejunum-a.jpg"/>
          <p:cNvPicPr/>
          <p:nvPr/>
        </p:nvPicPr>
        <p:blipFill>
          <a:blip r:embed="rId2"/>
          <a:stretch/>
        </p:blipFill>
        <p:spPr>
          <a:xfrm>
            <a:off x="3962520" y="2133720"/>
            <a:ext cx="46162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lasma Membrane </a:t>
            </a: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luid Mosaic Mod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7" name="Picture 5" descr="http://images.wikia.com/aecbio11/images/7/7d/Phospholopid_bilayer.gif"/>
          <p:cNvPicPr/>
          <p:nvPr/>
        </p:nvPicPr>
        <p:blipFill>
          <a:blip r:embed="rId1"/>
          <a:stretch/>
        </p:blipFill>
        <p:spPr>
          <a:xfrm>
            <a:off x="6477120" y="0"/>
            <a:ext cx="2455920" cy="18781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http://eweb.furman.edu/~wworthen/bio111/2membrane.jpg"/>
          <p:cNvPicPr/>
          <p:nvPr/>
        </p:nvPicPr>
        <p:blipFill>
          <a:blip r:embed="rId2"/>
          <a:stretch/>
        </p:blipFill>
        <p:spPr>
          <a:xfrm>
            <a:off x="457200" y="1905120"/>
            <a:ext cx="7943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ve transport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 NO ener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u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" name="Picture 5" descr="http://upload.wikimedia.org/wikipedia/commons/thumb/1/12/Diffusion.svg/220px-Diffusion.svg.png"/>
          <p:cNvPicPr/>
          <p:nvPr/>
        </p:nvPicPr>
        <p:blipFill>
          <a:blip r:embed="rId1"/>
          <a:stretch/>
        </p:blipFill>
        <p:spPr>
          <a:xfrm>
            <a:off x="152280" y="1295280"/>
            <a:ext cx="2513160" cy="1530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http://www.biologyguide.net/img/notes/32.png"/>
          <p:cNvPicPr/>
          <p:nvPr/>
        </p:nvPicPr>
        <p:blipFill>
          <a:blip r:embed="rId2"/>
          <a:stretch/>
        </p:blipFill>
        <p:spPr>
          <a:xfrm>
            <a:off x="2590920" y="2584440"/>
            <a:ext cx="670536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ve transport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 NO ener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smo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5" name="Picture 5" descr="http://deltabiology.com/wp-content/uploads/2012/01/osmosis3.gif"/>
          <p:cNvPicPr/>
          <p:nvPr/>
        </p:nvPicPr>
        <p:blipFill>
          <a:blip r:embed="rId1"/>
          <a:stretch/>
        </p:blipFill>
        <p:spPr>
          <a:xfrm>
            <a:off x="990720" y="13716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ve transport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 NO ener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smo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8" name="Picture 7" descr="http://2.bp.blogspot.com/_hhUdKwzDmA4/S3LLpGCVZwI/AAAAAAAAAbk/TFdIqp9C_k4/s400/hyper,+hypo,+iso.jpg"/>
          <p:cNvPicPr/>
          <p:nvPr/>
        </p:nvPicPr>
        <p:blipFill>
          <a:blip r:embed="rId1"/>
          <a:stretch/>
        </p:blipFill>
        <p:spPr>
          <a:xfrm>
            <a:off x="152280" y="1600200"/>
            <a:ext cx="8534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ample Question 2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684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hat is the major difference between prokaryotes and eukaryote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. Prokaryotes used photosynthesis and eukaryotes don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 use photosynth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. Prokaryotes have a nucleus and eukaryotes do not have a nucle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. Prokaryotes do not have DNA and eukaryotes do have D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. Prokaryotes do not have a nucleus and eukaryotes do have a nucleu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. Prokaryotes used photosynthesis while eukaryotes use respi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ve transport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 NO ener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cilitated Diffu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1" name="Picture 5" descr="http://4.bp.blogspot.com/_detzCStVbk8/TJbA6H6_39I/AAAAAAAAADw/5V3zzv42JJs/s1600/facilitated.jpg"/>
          <p:cNvPicPr/>
          <p:nvPr/>
        </p:nvPicPr>
        <p:blipFill>
          <a:blip r:embed="rId1"/>
          <a:stretch/>
        </p:blipFill>
        <p:spPr>
          <a:xfrm>
            <a:off x="533520" y="1143000"/>
            <a:ext cx="822960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Active Transport – requires energ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ell Membrane Pum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4" name="Picture 5" descr="http://sbi3u0.yolasite.com/resources/0645.jpg"/>
          <p:cNvPicPr/>
          <p:nvPr/>
        </p:nvPicPr>
        <p:blipFill>
          <a:blip r:embed="rId1"/>
          <a:stretch/>
        </p:blipFill>
        <p:spPr>
          <a:xfrm>
            <a:off x="1143000" y="144792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Active Transport – requires energ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ndocyto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Picture 2" descr="http://kenpitts.net/bio/images/endocytosis.gif"/>
          <p:cNvPicPr/>
          <p:nvPr/>
        </p:nvPicPr>
        <p:blipFill>
          <a:blip r:embed="rId1"/>
          <a:stretch/>
        </p:blipFill>
        <p:spPr>
          <a:xfrm>
            <a:off x="0" y="2514600"/>
            <a:ext cx="10210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Active Transport – requires energ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ocyto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0" name="Picture 2" descr="http://kenpitts.net/bio/images/exocytosis.gif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ransport in Cel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s vesic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volves the endoplasmic reticulum and golgi apparat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3" name="Picture 5" descr="http://carolguze.com/images/cellorganelles/er-golgi1.jpg"/>
          <p:cNvPicPr/>
          <p:nvPr/>
        </p:nvPicPr>
        <p:blipFill>
          <a:blip r:embed="rId1"/>
          <a:stretch/>
        </p:blipFill>
        <p:spPr>
          <a:xfrm>
            <a:off x="838080" y="1905120"/>
            <a:ext cx="704556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ample Question #3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28600" y="18284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ow is osmosis different from diffusio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. osmosis refers to the movement of ions across the membrane while diffusion is a special type of osmosi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. osmosis is a special type of diffusion involving only wat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. osmosis requires energy and diffusion does no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. osmosis requires proteins and diffusion does no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ll living things have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2" descr="http://woostermiddle.stratfordk12.org/images/customer-images/living_vs_nonliving.JPG"/>
          <p:cNvPicPr/>
          <p:nvPr/>
        </p:nvPicPr>
        <p:blipFill>
          <a:blip r:embed="rId1"/>
          <a:stretch/>
        </p:blipFill>
        <p:spPr>
          <a:xfrm>
            <a:off x="366840" y="1981080"/>
            <a:ext cx="8253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ave Cel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icellul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ulticellul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http://4.bp.blogspot.com/_rYYcdMsVqUE/TUAdFdAvVDI/AAAAAAAAABc/VgJta_GKIIc/s1600/Amoeba.jpg"/>
          <p:cNvPicPr/>
          <p:nvPr/>
        </p:nvPicPr>
        <p:blipFill>
          <a:blip r:embed="rId1"/>
          <a:stretch/>
        </p:blipFill>
        <p:spPr>
          <a:xfrm>
            <a:off x="609480" y="2819520"/>
            <a:ext cx="3505320" cy="2601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http://www.arthursclipart.org/elephants/elephants/elephant%20picture.gif"/>
          <p:cNvPicPr/>
          <p:nvPr/>
        </p:nvPicPr>
        <p:blipFill>
          <a:blip r:embed="rId2"/>
          <a:stretch/>
        </p:blipFill>
        <p:spPr>
          <a:xfrm>
            <a:off x="4648320" y="2514600"/>
            <a:ext cx="396216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pond to stimul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5" descr="http://mrbenton.com/images/stimresp.jpg"/>
          <p:cNvPicPr/>
          <p:nvPr/>
        </p:nvPicPr>
        <p:blipFill>
          <a:blip r:embed="rId1"/>
          <a:stretch/>
        </p:blipFill>
        <p:spPr>
          <a:xfrm>
            <a:off x="685800" y="1905120"/>
            <a:ext cx="2590920" cy="3289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http://biology.kenyon.edu/edwards/project/kathleen/images/pot2.gif"/>
          <p:cNvPicPr/>
          <p:nvPr/>
        </p:nvPicPr>
        <p:blipFill>
          <a:blip r:embed="rId2"/>
          <a:stretch/>
        </p:blipFill>
        <p:spPr>
          <a:xfrm>
            <a:off x="4724280" y="3048120"/>
            <a:ext cx="35942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intain homeostas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5" descr="http://www.macronutrients.net/wp-content/uploads/2011/12/Homeostasis.gif"/>
          <p:cNvPicPr/>
          <p:nvPr/>
        </p:nvPicPr>
        <p:blipFill>
          <a:blip r:embed="rId1"/>
          <a:stretch/>
        </p:blipFill>
        <p:spPr>
          <a:xfrm>
            <a:off x="1219320" y="1905120"/>
            <a:ext cx="62481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tabol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Autotrophs </a:t>
            </a: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Heterotroph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8" descr="http://companionplants.com/images/small-plant2.jpg"/>
          <p:cNvPicPr/>
          <p:nvPr/>
        </p:nvPicPr>
        <p:blipFill>
          <a:blip r:embed="rId1"/>
          <a:stretch/>
        </p:blipFill>
        <p:spPr>
          <a:xfrm>
            <a:off x="609480" y="2438280"/>
            <a:ext cx="3429000" cy="4191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http://animallamina.files.wordpress.com/2010/11/eating-hamster.jpg"/>
          <p:cNvPicPr/>
          <p:nvPr/>
        </p:nvPicPr>
        <p:blipFill>
          <a:blip r:embed="rId2"/>
          <a:stretch/>
        </p:blipFill>
        <p:spPr>
          <a:xfrm>
            <a:off x="4800600" y="2590920"/>
            <a:ext cx="36702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4:25:26Z</dcterms:created>
  <dc:creator>Administrator</dc:creator>
  <dc:description/>
  <dc:language>en-US</dc:language>
  <cp:lastModifiedBy>Dawn  Marshall</cp:lastModifiedBy>
  <dcterms:modified xsi:type="dcterms:W3CDTF">2013-03-20T14:45:14Z</dcterms:modified>
  <cp:revision>16</cp:revision>
  <dc:subject/>
  <dc:title>Bio Boot Camp</dc:title>
</cp:coreProperties>
</file>